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506E-04BD-429E-849B-3A5CF19F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930-E6AB-4B20-BAB1-29BDF91D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591-D453-49E9-91B9-6D322023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590-CB0B-4D3D-AA82-31DFD4AD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C33-2C3E-4DE5-B085-D3DA47EE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BED-BF21-4BA7-968C-68686D04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C60-0149-4BCB-BCA3-A82BF053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865-3351-48FB-8D77-433D7B0C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768-799A-4027-92AD-B04EEE47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F9B-C1B8-44EF-9771-E04B1AE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4A5-2B0E-47C6-9A5E-736A9C00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CCA-3578-443C-B5B6-07349DD3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D744-4E46-485B-875F-EB651926F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38320" y="533520"/>
            <a:ext cx="3267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ur Schoo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y Rebecc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il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logo1" descr=""/>
          <p:cNvPicPr/>
          <p:nvPr/>
        </p:nvPicPr>
        <p:blipFill>
          <a:blip r:embed="rId1"/>
          <a:stretch/>
        </p:blipFill>
        <p:spPr>
          <a:xfrm>
            <a:off x="533520" y="2619360"/>
            <a:ext cx="35812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09680" y="304920"/>
            <a:ext cx="4191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About Me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1240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y name is Rebecca Da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go to Glenboi Prim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have a wonderful teacher called Mr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am in yea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43080" y="533520"/>
            <a:ext cx="4857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at is in my school?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95480"/>
            <a:ext cx="5867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iv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ff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ig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4 yards to play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computer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0" y="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y Teache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914400"/>
            <a:ext cx="563904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Matt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ss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Dix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ss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s Atte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r Ro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1219320"/>
            <a:ext cx="2819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19520" y="380880"/>
            <a:ext cx="3352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y da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523880"/>
            <a:ext cx="28958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wr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emb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unch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.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.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2:14:09Z</dcterms:created>
  <dc:creator>4glenb2</dc:creator>
  <dc:description/>
  <dc:language>en-US</dc:language>
  <cp:lastModifiedBy>4glenb2</cp:lastModifiedBy>
  <dcterms:modified xsi:type="dcterms:W3CDTF">2009-09-30T12:52:00Z</dcterms:modified>
  <cp:revision>1</cp:revision>
  <dc:subject/>
  <dc:title>PowerPoint Presentation</dc:title>
</cp:coreProperties>
</file>